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chimes.wav" ContentType="audio/x-wav"/>
  <Override PartName="/ppt/media/image9.wmf" ContentType="image/x-wmf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8DE-FDF1-43BA-9FAB-8DC8AC38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FD0-F1E4-4F9F-AFB5-58C90D2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6E305-17E0-46B4-ABAF-371E0FF3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D8A30-E4A5-485A-A03D-FF41AB7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D3F72-13C5-4282-BCE2-2DD9D848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BE43-0277-4DDC-8141-DD9ABC4E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8A41E-19EA-4FF7-BABD-975F30B4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876FE-A15E-453F-9AD2-0DB263C3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E8317-CC01-43A6-B331-0BA6B2F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7AEEE-91A4-4170-A29A-35C994FF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172D1-DE38-4656-B3C2-5C46359F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8C-B6FB-432B-8046-BFE3C1D4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7AB-A745-41D1-B3CB-459B2BB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444A-44F6-4A4A-A874-0B8DFF3E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416-D9D3-4CB8-B6C9-9A59359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A4F6-AA7D-429E-A5F3-FC89EB54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C59D-CCB2-49E7-8E22-263F2608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1C8-2A10-4197-9CB9-FD60BA05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284F-9B17-4BFE-92D7-823BBE93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DC06-B337-4E0F-BF54-4EDF364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F3C-400C-4A67-B1BC-8B53E96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6AB-854A-46F8-A2E4-C80C31B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BE66-EABF-4472-BEE1-7CA0A17F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5695-E07A-4FA3-A6BA-D85A2268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DA16-39AA-4A51-B8AB-F5B5A733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D71D-6B38-48B6-96CD-7C3EE47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E9F8-9B22-48AF-B5C7-AA9FCBB2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7DBE-B1C0-427C-B6F2-A98B9F9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5C49-C091-48CA-871B-3875D6C4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6294-AF4E-4DF4-830C-E1026258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EBC0-3827-4C78-AC3B-32EC08E1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5A6-6341-4411-83CF-6F0B7051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73BE-7C18-4E83-AEDC-6C2B5B1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4AD9-DC55-4FD7-B13E-828BD7ED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975C-5436-4BB9-BF05-F611DF11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95A4-72F2-49F9-8D4E-28E94BB0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E0D0-AE44-4C8E-AC35-4A6733D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13B3-31E8-49FD-8E9A-220BDA21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DDF0-91C7-4BA5-BE39-3466A0F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3370-D075-48D4-9A10-411B93E4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1B6E-E0E1-4F45-BCE7-28E8948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0A20C-1546-45FC-BD34-3F534E3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54D-732F-4964-AC85-3B948037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307C-F457-4570-8E14-A4E0977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1467-5816-43A8-AE3D-B91E044E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DD91B-AAB7-4ED8-89AC-8860B1CF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EC5B-7BD1-4CDA-8806-A58F8C6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060D-A3C8-4F53-9D3F-315A9F3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2EB4-3495-4EA0-9B4D-A15AC238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481D-44F4-4D53-8833-7C13F6A0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0580-E772-4B8C-9A12-4396A3D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ECC8-4CE8-4C46-81A3-E0E2C8C5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E5F77-5271-4514-8630-422283F3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AF2-1533-4D5A-953F-1892BCED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11CEE-4B95-48D5-B357-FC820CE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C07D-4D40-4CB1-AA0D-DAF5530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C85A-0B0C-4B00-AB9C-5341650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20A9-D20B-404E-B7B7-3DA12D7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022B-5837-4BAB-AAAE-D0199CB9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A606D-FDFA-4A3A-932F-66F4509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09C2-AA55-464C-A1F9-77DD0B0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494ED-4798-426A-B2F2-2F69279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43AB-9B43-43F8-A3D8-83BA80DD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A737C-CE07-4FF5-AB0F-488C529F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EF1-C385-4B71-8339-B20F0129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B421-502E-40BE-B3A3-312545FF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3675-D193-4B7B-A23E-D9A633CF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5AAA-EDEA-4B4D-9E47-64DD8D9F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D789-D517-4741-97F5-3161C21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91B0-356C-4E4C-8A6D-B1B58BA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06AB-2232-442B-A580-ED693BDE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EB7E-A3F8-4906-A526-2DAAAE0F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B53B-6716-4DD6-A7AA-0B218BE8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A91C-856D-4C92-82BE-EEA704E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B0ED-61B2-4761-809A-FAE915E9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4A0-B292-4DD7-AB4C-2BE3AE7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1B81-36B4-4994-8496-BA5825BF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3FB00-E59A-4808-B6F1-11AE5E7B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92E9-48C9-4251-9B4A-DFF11C15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4862-F76A-450F-9479-B7DC028F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88CE5-5F71-46C0-883A-9CD26F2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E86B-EB56-4CC1-8619-04673C2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C501A-B379-426F-8FA4-1ED436D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CF38F-9BC5-4541-B352-25D2D80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E9EC-86B6-4532-AD6A-C241C789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9CB5-0127-417D-96D2-E025D1C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C6C-6610-4086-860B-FE53BB4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74D59-4E63-4ABB-966E-052CB2A3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487D7-19F8-4B5F-B30D-2C1EB74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8568-FBB0-46B1-B5CF-9663F4CD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79481-ACE3-4498-904F-CBE729BD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1C1E-9AE4-4234-B85D-4B3F5C81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1B11-69B9-4E48-A464-523DAD3D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FED7-5B17-4667-97E0-A8DB84DA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5DB8F-B370-41B5-9944-EB76449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12F6-70DC-4A45-8343-B5B3038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72EDB-663D-404B-9DEB-1812D97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40E-FC76-4CB4-86E4-D6B8F19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87D2-36B5-46F8-8207-0CFDECA8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C82DF-F86D-4A70-A101-008BE67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7942-EA47-46F2-9748-2B54DEAA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A2901-C28C-429F-8C58-3998C35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61DE2-0952-4F3B-BDEE-8EB74E51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F7A6-6698-4D3F-98FA-1E5FBE6D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3AD3A-DCEA-40DA-B716-4679587A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703DD-2F81-4658-9070-9F273BBA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FA163-008A-4FCC-A28F-140C9AEC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EFEF6-31AA-410D-949E-D59CEAA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760-B66A-48FC-B9F1-ED1F8E51C8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73729"/>
          <p:cNvGrpSpPr/>
          <p:nvPr/>
        </p:nvGrpSpPr>
        <p:grpSpPr>
          <a:xfrm>
            <a:off x="1428480" y="304920"/>
            <a:ext cx="10153440" cy="1106280"/>
            <a:chOff x="1428480" y="304920"/>
            <a:chExt cx="10153440" cy="1106280"/>
          </a:xfrm>
        </p:grpSpPr>
        <p:sp>
          <p:nvSpPr>
            <p:cNvPr id="45" name="椭圆 73730"/>
            <p:cNvSpPr/>
            <p:nvPr/>
          </p:nvSpPr>
          <p:spPr>
            <a:xfrm flipH="1">
              <a:off x="6490800" y="304920"/>
              <a:ext cx="14727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3731"/>
            <p:cNvSpPr/>
            <p:nvPr/>
          </p:nvSpPr>
          <p:spPr>
            <a:xfrm flipH="1">
              <a:off x="10110960" y="304920"/>
              <a:ext cx="14709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73732"/>
            <p:cNvSpPr/>
            <p:nvPr/>
          </p:nvSpPr>
          <p:spPr>
            <a:xfrm flipH="1">
              <a:off x="1428120" y="30636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73733"/>
            <p:cNvSpPr/>
            <p:nvPr/>
          </p:nvSpPr>
          <p:spPr>
            <a:xfrm flipH="1">
              <a:off x="843228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73734"/>
            <p:cNvSpPr/>
            <p:nvPr/>
          </p:nvSpPr>
          <p:spPr>
            <a:xfrm flipH="1">
              <a:off x="314496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6643-738D-445A-A172-086BAFF28C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77825"/>
          <p:cNvGrpSpPr/>
          <p:nvPr/>
        </p:nvGrpSpPr>
        <p:grpSpPr>
          <a:xfrm>
            <a:off x="-35640" y="-188280"/>
            <a:ext cx="3655440" cy="7044840"/>
            <a:chOff x="-35640" y="-188280"/>
            <a:chExt cx="3655440" cy="7044840"/>
          </a:xfrm>
        </p:grpSpPr>
        <p:sp>
          <p:nvSpPr>
            <p:cNvPr id="92" name="任意多边形 77826"/>
            <p:cNvSpPr/>
            <p:nvPr/>
          </p:nvSpPr>
          <p:spPr>
            <a:xfrm>
              <a:off x="-11160" y="5178600"/>
              <a:ext cx="998640" cy="127296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77827"/>
            <p:cNvGrpSpPr/>
            <p:nvPr/>
          </p:nvGrpSpPr>
          <p:grpSpPr>
            <a:xfrm>
              <a:off x="131760" y="3932640"/>
              <a:ext cx="1109160" cy="735840"/>
              <a:chOff x="131760" y="3932640"/>
              <a:chExt cx="1109160" cy="735840"/>
            </a:xfrm>
          </p:grpSpPr>
          <p:sp>
            <p:nvSpPr>
              <p:cNvPr id="94" name="任意多边形 77828"/>
              <p:cNvSpPr/>
              <p:nvPr/>
            </p:nvSpPr>
            <p:spPr>
              <a:xfrm flipH="1" rot="14965200">
                <a:off x="222840" y="3924720"/>
                <a:ext cx="227160" cy="35208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77829"/>
              <p:cNvSpPr/>
              <p:nvPr/>
            </p:nvSpPr>
            <p:spPr>
              <a:xfrm flipH="1" rot="14965200">
                <a:off x="414000" y="4288680"/>
                <a:ext cx="388440" cy="29268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77830"/>
              <p:cNvSpPr/>
              <p:nvPr/>
            </p:nvSpPr>
            <p:spPr>
              <a:xfrm flipH="1" rot="14965200">
                <a:off x="896040" y="4102560"/>
                <a:ext cx="406080" cy="14904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任意多边形 77831"/>
            <p:cNvSpPr/>
            <p:nvPr/>
          </p:nvSpPr>
          <p:spPr>
            <a:xfrm>
              <a:off x="189720" y="2755800"/>
              <a:ext cx="1502640" cy="121932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组合 77832"/>
            <p:cNvGrpSpPr/>
            <p:nvPr/>
          </p:nvGrpSpPr>
          <p:grpSpPr>
            <a:xfrm>
              <a:off x="8640" y="2537640"/>
              <a:ext cx="3611160" cy="3250800"/>
              <a:chOff x="8640" y="2537640"/>
              <a:chExt cx="3611160" cy="3250800"/>
            </a:xfrm>
          </p:grpSpPr>
          <p:sp>
            <p:nvSpPr>
              <p:cNvPr id="99" name="任意多边形 77833"/>
              <p:cNvSpPr/>
              <p:nvPr/>
            </p:nvSpPr>
            <p:spPr>
              <a:xfrm flipH="1" rot="789600">
                <a:off x="478800" y="2672280"/>
                <a:ext cx="1300320" cy="1005120"/>
              </a:xfrm>
              <a:custGeom>
                <a:avLst/>
                <a:gdLst>
                  <a:gd name="textAreaLeft" fmla="*/ 360 w 1300320"/>
                  <a:gd name="textAreaRight" fmla="*/ 1301040 w 130032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77834"/>
              <p:cNvSpPr/>
              <p:nvPr/>
            </p:nvSpPr>
            <p:spPr>
              <a:xfrm flipH="1" rot="789600">
                <a:off x="110520" y="2801520"/>
                <a:ext cx="1088280" cy="1021680"/>
              </a:xfrm>
              <a:custGeom>
                <a:avLst/>
                <a:gdLst>
                  <a:gd name="textAreaLeft" fmla="*/ -360 w 1088280"/>
                  <a:gd name="textAreaRight" fmla="*/ 1088280 w 108828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77835"/>
              <p:cNvSpPr/>
              <p:nvPr/>
            </p:nvSpPr>
            <p:spPr>
              <a:xfrm flipH="1" rot="789600">
                <a:off x="447840" y="3011400"/>
                <a:ext cx="386280" cy="516960"/>
              </a:xfrm>
              <a:custGeom>
                <a:avLst/>
                <a:gdLst>
                  <a:gd name="textAreaLeft" fmla="*/ -360 w 386280"/>
                  <a:gd name="textAreaRight" fmla="*/ 386280 w 38628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77836"/>
              <p:cNvSpPr/>
              <p:nvPr/>
            </p:nvSpPr>
            <p:spPr>
              <a:xfrm flipH="1" rot="789600">
                <a:off x="1170720" y="3775680"/>
                <a:ext cx="353160" cy="307800"/>
              </a:xfrm>
              <a:custGeom>
                <a:avLst/>
                <a:gdLst>
                  <a:gd name="textAreaLeft" fmla="*/ -360 w 353160"/>
                  <a:gd name="textAreaRight" fmla="*/ 353160 w 3531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77837"/>
              <p:cNvSpPr/>
              <p:nvPr/>
            </p:nvSpPr>
            <p:spPr>
              <a:xfrm flipH="1" rot="789600">
                <a:off x="1070280" y="3830040"/>
                <a:ext cx="87480" cy="182520"/>
              </a:xfrm>
              <a:custGeom>
                <a:avLst/>
                <a:gdLst>
                  <a:gd name="textAreaLeft" fmla="*/ -360 w 87480"/>
                  <a:gd name="textAreaRight" fmla="*/ 87480 w 874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组合 77838"/>
              <p:cNvGrpSpPr/>
              <p:nvPr/>
            </p:nvGrpSpPr>
            <p:grpSpPr>
              <a:xfrm>
                <a:off x="1187280" y="3958560"/>
                <a:ext cx="2432520" cy="1829880"/>
                <a:chOff x="1187280" y="3958560"/>
                <a:chExt cx="2432520" cy="1829880"/>
              </a:xfrm>
            </p:grpSpPr>
            <p:sp>
              <p:nvSpPr>
                <p:cNvPr id="105" name="任意多边形 77839"/>
                <p:cNvSpPr/>
                <p:nvPr/>
              </p:nvSpPr>
              <p:spPr>
                <a:xfrm flipH="1" rot="7102800">
                  <a:off x="1782000" y="3738240"/>
                  <a:ext cx="474480" cy="163548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635480"/>
                    <a:gd name="textAreaBottom" fmla="*/ 1635840 h 16354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77840"/>
                <p:cNvSpPr/>
                <p:nvPr/>
              </p:nvSpPr>
              <p:spPr>
                <a:xfrm flipH="1" rot="7102800">
                  <a:off x="3156120" y="4935600"/>
                  <a:ext cx="108720" cy="670320"/>
                </a:xfrm>
                <a:custGeom>
                  <a:avLst/>
                  <a:gdLst>
                    <a:gd name="textAreaLeft" fmla="*/ 360 w 108720"/>
                    <a:gd name="textAreaRight" fmla="*/ 109440 w 108720"/>
                    <a:gd name="textAreaTop" fmla="*/ 0 h 670320"/>
                    <a:gd name="textAreaBottom" fmla="*/ 670680 h 6703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任意多边形 77841"/>
                <p:cNvSpPr/>
                <p:nvPr/>
              </p:nvSpPr>
              <p:spPr>
                <a:xfrm flipH="1" rot="7102800">
                  <a:off x="3423600" y="5617440"/>
                  <a:ext cx="198360" cy="113040"/>
                </a:xfrm>
                <a:custGeom>
                  <a:avLst/>
                  <a:gdLst>
                    <a:gd name="textAreaLeft" fmla="*/ -360 w 198360"/>
                    <a:gd name="textAreaRight" fmla="*/ 198360 w 19836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组合 77842"/>
            <p:cNvGrpSpPr/>
            <p:nvPr/>
          </p:nvGrpSpPr>
          <p:grpSpPr>
            <a:xfrm>
              <a:off x="643320" y="6180840"/>
              <a:ext cx="1007640" cy="645480"/>
              <a:chOff x="643320" y="6180840"/>
              <a:chExt cx="1007640" cy="645480"/>
            </a:xfrm>
          </p:grpSpPr>
          <p:sp>
            <p:nvSpPr>
              <p:cNvPr id="109" name="任意多边形 77843"/>
              <p:cNvSpPr/>
              <p:nvPr/>
            </p:nvSpPr>
            <p:spPr>
              <a:xfrm rot="6248400">
                <a:off x="1365120" y="6148800"/>
                <a:ext cx="196560" cy="33660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77844"/>
              <p:cNvSpPr/>
              <p:nvPr/>
            </p:nvSpPr>
            <p:spPr>
              <a:xfrm rot="6248400">
                <a:off x="1082160" y="6488640"/>
                <a:ext cx="336600" cy="2797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77845"/>
              <p:cNvSpPr/>
              <p:nvPr/>
            </p:nvSpPr>
            <p:spPr>
              <a:xfrm rot="6248400">
                <a:off x="579240" y="6370560"/>
                <a:ext cx="352080" cy="1422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77846"/>
            <p:cNvGrpSpPr/>
            <p:nvPr/>
          </p:nvGrpSpPr>
          <p:grpSpPr>
            <a:xfrm>
              <a:off x="426960" y="1760760"/>
              <a:ext cx="1047240" cy="715320"/>
              <a:chOff x="426960" y="1760760"/>
              <a:chExt cx="1047240" cy="715320"/>
            </a:xfrm>
          </p:grpSpPr>
          <p:sp>
            <p:nvSpPr>
              <p:cNvPr id="113" name="任意多边形 77847"/>
              <p:cNvSpPr/>
              <p:nvPr/>
            </p:nvSpPr>
            <p:spPr>
              <a:xfrm rot="5002800">
                <a:off x="1161720" y="1687680"/>
                <a:ext cx="206640" cy="397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77848"/>
              <p:cNvSpPr/>
              <p:nvPr/>
            </p:nvSpPr>
            <p:spPr>
              <a:xfrm rot="5002800">
                <a:off x="978120" y="2108880"/>
                <a:ext cx="353880" cy="32976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77849"/>
              <p:cNvSpPr/>
              <p:nvPr/>
            </p:nvSpPr>
            <p:spPr>
              <a:xfrm rot="5002800">
                <a:off x="346320" y="2198520"/>
                <a:ext cx="370080" cy="1677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77850"/>
            <p:cNvGrpSpPr/>
            <p:nvPr/>
          </p:nvGrpSpPr>
          <p:grpSpPr>
            <a:xfrm>
              <a:off x="1724400" y="0"/>
              <a:ext cx="729000" cy="581400"/>
              <a:chOff x="1724400" y="0"/>
              <a:chExt cx="729000" cy="581400"/>
            </a:xfrm>
          </p:grpSpPr>
          <p:sp>
            <p:nvSpPr>
              <p:cNvPr id="117" name="任意多边形 77851"/>
              <p:cNvSpPr/>
              <p:nvPr/>
            </p:nvSpPr>
            <p:spPr>
              <a:xfrm>
                <a:off x="1724400" y="0"/>
                <a:ext cx="230760" cy="21852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77852"/>
              <p:cNvSpPr/>
              <p:nvPr/>
            </p:nvSpPr>
            <p:spPr>
              <a:xfrm>
                <a:off x="2058120" y="103320"/>
                <a:ext cx="395280" cy="1814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77853"/>
              <p:cNvSpPr/>
              <p:nvPr/>
            </p:nvSpPr>
            <p:spPr>
              <a:xfrm>
                <a:off x="1978560" y="489240"/>
                <a:ext cx="413280" cy="9216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任意多边形 77854"/>
            <p:cNvSpPr/>
            <p:nvPr/>
          </p:nvSpPr>
          <p:spPr>
            <a:xfrm>
              <a:off x="183600" y="149400"/>
              <a:ext cx="1479240" cy="1199880"/>
            </a:xfrm>
            <a:custGeom>
              <a:avLst/>
              <a:gdLst>
                <a:gd name="textAreaLeft" fmla="*/ 0 w 1479240"/>
                <a:gd name="textAreaRight" fmla="*/ 1479600 w 14792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77855"/>
            <p:cNvSpPr/>
            <p:nvPr/>
          </p:nvSpPr>
          <p:spPr>
            <a:xfrm rot="828600">
              <a:off x="511200" y="5403600"/>
              <a:ext cx="279360" cy="2649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77856"/>
            <p:cNvSpPr/>
            <p:nvPr/>
          </p:nvSpPr>
          <p:spPr>
            <a:xfrm rot="828600">
              <a:off x="561960" y="5702040"/>
              <a:ext cx="139680" cy="68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77857"/>
            <p:cNvSpPr/>
            <p:nvPr/>
          </p:nvSpPr>
          <p:spPr>
            <a:xfrm>
              <a:off x="22680" y="6524640"/>
              <a:ext cx="249480" cy="3319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77858"/>
            <p:cNvSpPr/>
            <p:nvPr/>
          </p:nvSpPr>
          <p:spPr>
            <a:xfrm>
              <a:off x="-360" y="6299280"/>
              <a:ext cx="275040" cy="2030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77859"/>
            <p:cNvSpPr/>
            <p:nvPr/>
          </p:nvSpPr>
          <p:spPr>
            <a:xfrm>
              <a:off x="-360" y="6269040"/>
              <a:ext cx="99360" cy="136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77860"/>
            <p:cNvSpPr/>
            <p:nvPr/>
          </p:nvSpPr>
          <p:spPr>
            <a:xfrm>
              <a:off x="-360" y="5141880"/>
              <a:ext cx="1051920" cy="1174680"/>
            </a:xfrm>
            <a:custGeom>
              <a:avLst/>
              <a:gdLst>
                <a:gd name="textAreaLeft" fmla="*/ 0 w 1051920"/>
                <a:gd name="textAreaRight" fmla="*/ 1052280 w 10519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77861"/>
            <p:cNvSpPr/>
            <p:nvPr/>
          </p:nvSpPr>
          <p:spPr>
            <a:xfrm rot="1584000">
              <a:off x="41400" y="650880"/>
              <a:ext cx="727920" cy="38880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77862"/>
            <p:cNvSpPr/>
            <p:nvPr/>
          </p:nvSpPr>
          <p:spPr>
            <a:xfrm rot="1584000">
              <a:off x="511560" y="1199880"/>
              <a:ext cx="353520" cy="18252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77863"/>
            <p:cNvSpPr/>
            <p:nvPr/>
          </p:nvSpPr>
          <p:spPr>
            <a:xfrm rot="1584000">
              <a:off x="1213920" y="453960"/>
              <a:ext cx="311040" cy="254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77864"/>
            <p:cNvSpPr/>
            <p:nvPr/>
          </p:nvSpPr>
          <p:spPr>
            <a:xfrm rot="1584000">
              <a:off x="498600" y="1144080"/>
              <a:ext cx="131040" cy="1540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77865"/>
            <p:cNvSpPr/>
            <p:nvPr/>
          </p:nvSpPr>
          <p:spPr>
            <a:xfrm rot="1584000">
              <a:off x="1237320" y="739800"/>
              <a:ext cx="151920" cy="651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77866"/>
            <p:cNvSpPr/>
            <p:nvPr/>
          </p:nvSpPr>
          <p:spPr>
            <a:xfrm>
              <a:off x="-360" y="1406520"/>
              <a:ext cx="762120" cy="1031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77867"/>
            <p:cNvSpPr/>
            <p:nvPr/>
          </p:nvSpPr>
          <p:spPr>
            <a:xfrm rot="1584000">
              <a:off x="117720" y="132840"/>
              <a:ext cx="1701360" cy="108900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52E1-2BA5-44E3-8804-41525A7C42F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76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407-F1BF-4271-8A15-44B42DED7B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9633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93470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BE12-20F2-4C9F-A705-A8201E2EF0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262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845-92EA-47C0-BD46-92D071CFB6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74753"/>
          <p:cNvGrpSpPr/>
          <p:nvPr/>
        </p:nvGrpSpPr>
        <p:grpSpPr>
          <a:xfrm>
            <a:off x="2211480" y="1600200"/>
            <a:ext cx="9116640" cy="3200400"/>
            <a:chOff x="2211480" y="1600200"/>
            <a:chExt cx="9116640" cy="3200400"/>
          </a:xfrm>
        </p:grpSpPr>
        <p:sp>
          <p:nvSpPr>
            <p:cNvPr id="306" name="椭圆 74754"/>
            <p:cNvSpPr/>
            <p:nvPr/>
          </p:nvSpPr>
          <p:spPr>
            <a:xfrm flipH="1">
              <a:off x="9296280" y="160020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74755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74756"/>
            <p:cNvSpPr/>
            <p:nvPr/>
          </p:nvSpPr>
          <p:spPr>
            <a:xfrm flipH="1">
              <a:off x="4519800" y="160020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 74757"/>
            <p:cNvSpPr/>
            <p:nvPr/>
          </p:nvSpPr>
          <p:spPr>
            <a:xfrm flipH="1">
              <a:off x="4519800" y="327672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74758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74759"/>
            <p:cNvSpPr/>
            <p:nvPr/>
          </p:nvSpPr>
          <p:spPr>
            <a:xfrm flipH="1">
              <a:off x="9296280" y="327672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F65E-AA6E-4B17-B5FF-33FBBAC1B8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78849"/>
          <p:cNvGrpSpPr/>
          <p:nvPr/>
        </p:nvGrpSpPr>
        <p:grpSpPr>
          <a:xfrm>
            <a:off x="-8280" y="-63000"/>
            <a:ext cx="11953800" cy="6921000"/>
            <a:chOff x="-8280" y="-63000"/>
            <a:chExt cx="11953800" cy="6921000"/>
          </a:xfrm>
        </p:grpSpPr>
        <p:grpSp>
          <p:nvGrpSpPr>
            <p:cNvPr id="354" name="组合 78850"/>
            <p:cNvGrpSpPr/>
            <p:nvPr/>
          </p:nvGrpSpPr>
          <p:grpSpPr>
            <a:xfrm>
              <a:off x="7365240" y="-63000"/>
              <a:ext cx="4580280" cy="6309720"/>
              <a:chOff x="7365240" y="-63000"/>
              <a:chExt cx="4580280" cy="6309720"/>
            </a:xfrm>
          </p:grpSpPr>
          <p:sp>
            <p:nvSpPr>
              <p:cNvPr id="355" name="任意多边形 78851"/>
              <p:cNvSpPr/>
              <p:nvPr/>
            </p:nvSpPr>
            <p:spPr>
              <a:xfrm flipV="1" rot="11970000">
                <a:off x="8811720" y="339840"/>
                <a:ext cx="2820960" cy="2357280"/>
              </a:xfrm>
              <a:custGeom>
                <a:avLst/>
                <a:gdLst>
                  <a:gd name="textAreaLeft" fmla="*/ 0 w 2820960"/>
                  <a:gd name="textAreaRight" fmla="*/ 2821320 w 28209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任意多边形 78852"/>
              <p:cNvSpPr/>
              <p:nvPr/>
            </p:nvSpPr>
            <p:spPr>
              <a:xfrm flipV="1" rot="11970000">
                <a:off x="9912960" y="1947600"/>
                <a:ext cx="1208520" cy="843480"/>
              </a:xfrm>
              <a:custGeom>
                <a:avLst/>
                <a:gdLst>
                  <a:gd name="textAreaLeft" fmla="*/ 0 w 1208520"/>
                  <a:gd name="textAreaRight" fmla="*/ 1208880 w 120852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任意多边形 78853"/>
              <p:cNvSpPr/>
              <p:nvPr/>
            </p:nvSpPr>
            <p:spPr>
              <a:xfrm flipV="1" rot="11970000">
                <a:off x="9111960" y="2598840"/>
                <a:ext cx="585720" cy="39528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78854"/>
              <p:cNvSpPr/>
              <p:nvPr/>
            </p:nvSpPr>
            <p:spPr>
              <a:xfrm flipV="1" rot="11970000">
                <a:off x="9715680" y="669600"/>
                <a:ext cx="518760" cy="55080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78855"/>
              <p:cNvSpPr/>
              <p:nvPr/>
            </p:nvSpPr>
            <p:spPr>
              <a:xfrm flipV="1" rot="11970000">
                <a:off x="9549720" y="2645640"/>
                <a:ext cx="218160" cy="33192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78856"/>
              <p:cNvSpPr/>
              <p:nvPr/>
            </p:nvSpPr>
            <p:spPr>
              <a:xfrm flipV="1" rot="11970000">
                <a:off x="9560880" y="1241280"/>
                <a:ext cx="253800" cy="1429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78857"/>
              <p:cNvSpPr/>
              <p:nvPr/>
            </p:nvSpPr>
            <p:spPr>
              <a:xfrm flipV="1" rot="11970000">
                <a:off x="7890840" y="2955240"/>
                <a:ext cx="698040" cy="326844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任意多边形 78858"/>
            <p:cNvSpPr/>
            <p:nvPr/>
          </p:nvSpPr>
          <p:spPr>
            <a:xfrm flipH="1" rot="373800">
              <a:off x="45360" y="3106440"/>
              <a:ext cx="683280" cy="1030320"/>
            </a:xfrm>
            <a:custGeom>
              <a:avLst/>
              <a:gdLst>
                <a:gd name="textAreaLeft" fmla="*/ 360 w 683280"/>
                <a:gd name="textAreaRight" fmla="*/ 684000 w 683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78859"/>
            <p:cNvSpPr/>
            <p:nvPr/>
          </p:nvSpPr>
          <p:spPr>
            <a:xfrm>
              <a:off x="355320" y="2000160"/>
              <a:ext cx="2664720" cy="2432160"/>
            </a:xfrm>
            <a:custGeom>
              <a:avLst/>
              <a:gdLst>
                <a:gd name="textAreaLeft" fmla="*/ 0 w 2664720"/>
                <a:gd name="textAreaRight" fmla="*/ 2665080 w 2664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78860"/>
            <p:cNvSpPr/>
            <p:nvPr/>
          </p:nvSpPr>
          <p:spPr>
            <a:xfrm>
              <a:off x="0" y="4143240"/>
              <a:ext cx="1695240" cy="72864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78861"/>
            <p:cNvSpPr/>
            <p:nvPr/>
          </p:nvSpPr>
          <p:spPr>
            <a:xfrm flipH="1" rot="373800">
              <a:off x="1899360" y="4532400"/>
              <a:ext cx="749160" cy="736560"/>
            </a:xfrm>
            <a:custGeom>
              <a:avLst/>
              <a:gdLst>
                <a:gd name="textAreaLeft" fmla="*/ -360 w 749160"/>
                <a:gd name="textAreaRight" fmla="*/ 749160 w 7491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78862"/>
            <p:cNvSpPr/>
            <p:nvPr/>
          </p:nvSpPr>
          <p:spPr>
            <a:xfrm flipH="1" rot="373800">
              <a:off x="1690560" y="4728960"/>
              <a:ext cx="183960" cy="43452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78863"/>
            <p:cNvSpPr/>
            <p:nvPr/>
          </p:nvSpPr>
          <p:spPr>
            <a:xfrm>
              <a:off x="2518920" y="5195880"/>
              <a:ext cx="2345040" cy="1662120"/>
            </a:xfrm>
            <a:custGeom>
              <a:avLst/>
              <a:gdLst>
                <a:gd name="textAreaLeft" fmla="*/ 0 w 2345040"/>
                <a:gd name="textAreaRight" fmla="*/ 2345400 w 23450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78864"/>
            <p:cNvGrpSpPr/>
            <p:nvPr/>
          </p:nvGrpSpPr>
          <p:grpSpPr>
            <a:xfrm>
              <a:off x="5535360" y="929880"/>
              <a:ext cx="1239840" cy="1462680"/>
              <a:chOff x="5535360" y="929880"/>
              <a:chExt cx="1239840" cy="1462680"/>
            </a:xfrm>
          </p:grpSpPr>
          <p:sp>
            <p:nvSpPr>
              <p:cNvPr id="369" name="任意多边形 78865"/>
              <p:cNvSpPr/>
              <p:nvPr/>
            </p:nvSpPr>
            <p:spPr>
              <a:xfrm rot="3220200">
                <a:off x="6171120" y="941760"/>
                <a:ext cx="285840" cy="50580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任意多边形 78866"/>
              <p:cNvSpPr/>
              <p:nvPr/>
            </p:nvSpPr>
            <p:spPr>
              <a:xfrm rot="3220200">
                <a:off x="6216480" y="1515240"/>
                <a:ext cx="489240" cy="42012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任意多边形 78867"/>
              <p:cNvSpPr/>
              <p:nvPr/>
            </p:nvSpPr>
            <p:spPr>
              <a:xfrm rot="3220200">
                <a:off x="5517000" y="2016000"/>
                <a:ext cx="511200" cy="213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78868"/>
            <p:cNvGrpSpPr/>
            <p:nvPr/>
          </p:nvGrpSpPr>
          <p:grpSpPr>
            <a:xfrm>
              <a:off x="7501680" y="229680"/>
              <a:ext cx="1186920" cy="951480"/>
              <a:chOff x="7501680" y="229680"/>
              <a:chExt cx="1186920" cy="951480"/>
            </a:xfrm>
          </p:grpSpPr>
          <p:sp>
            <p:nvSpPr>
              <p:cNvPr id="373" name="任意多边形 78869"/>
              <p:cNvSpPr/>
              <p:nvPr/>
            </p:nvSpPr>
            <p:spPr>
              <a:xfrm rot="14908200">
                <a:off x="7669080" y="768600"/>
                <a:ext cx="178560" cy="4820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任意多边形 78870"/>
              <p:cNvSpPr/>
              <p:nvPr/>
            </p:nvSpPr>
            <p:spPr>
              <a:xfrm rot="14908200">
                <a:off x="7661160" y="441360"/>
                <a:ext cx="306000" cy="40032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任意多边形 78871"/>
              <p:cNvSpPr/>
              <p:nvPr/>
            </p:nvSpPr>
            <p:spPr>
              <a:xfrm rot="14908200">
                <a:off x="8374680" y="313920"/>
                <a:ext cx="320040" cy="20376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组合 78872"/>
            <p:cNvGrpSpPr/>
            <p:nvPr/>
          </p:nvGrpSpPr>
          <p:grpSpPr>
            <a:xfrm>
              <a:off x="1352880" y="5257800"/>
              <a:ext cx="1253520" cy="940320"/>
              <a:chOff x="1352880" y="5257800"/>
              <a:chExt cx="1253520" cy="940320"/>
            </a:xfrm>
          </p:grpSpPr>
          <p:sp>
            <p:nvSpPr>
              <p:cNvPr id="377" name="任意多边形 78873"/>
              <p:cNvSpPr/>
              <p:nvPr/>
            </p:nvSpPr>
            <p:spPr>
              <a:xfrm rot="8524800">
                <a:off x="2214720" y="5494320"/>
                <a:ext cx="335160" cy="298800"/>
              </a:xfrm>
              <a:custGeom>
                <a:avLst/>
                <a:gdLst>
                  <a:gd name="textAreaLeft" fmla="*/ 0 w 335160"/>
                  <a:gd name="textAreaRight" fmla="*/ 335160 w 3351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任意多边形 78874"/>
              <p:cNvSpPr/>
              <p:nvPr/>
            </p:nvSpPr>
            <p:spPr>
              <a:xfrm rot="8524800">
                <a:off x="1547640" y="5799240"/>
                <a:ext cx="573840" cy="24840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任意多边形 78875"/>
              <p:cNvSpPr/>
              <p:nvPr/>
            </p:nvSpPr>
            <p:spPr>
              <a:xfrm rot="8524800">
                <a:off x="1328400" y="5428800"/>
                <a:ext cx="600120" cy="1263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78876"/>
            <p:cNvGrpSpPr/>
            <p:nvPr/>
          </p:nvGrpSpPr>
          <p:grpSpPr>
            <a:xfrm>
              <a:off x="523080" y="367920"/>
              <a:ext cx="2131560" cy="1250640"/>
              <a:chOff x="523080" y="367920"/>
              <a:chExt cx="2131560" cy="1250640"/>
            </a:xfrm>
          </p:grpSpPr>
          <p:sp>
            <p:nvSpPr>
              <p:cNvPr id="381" name="任意多边形 78877"/>
              <p:cNvSpPr/>
              <p:nvPr/>
            </p:nvSpPr>
            <p:spPr>
              <a:xfrm flipH="1" rot="4107000">
                <a:off x="2080800" y="900000"/>
                <a:ext cx="356040" cy="7088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任意多边形 78878"/>
              <p:cNvSpPr/>
              <p:nvPr/>
            </p:nvSpPr>
            <p:spPr>
              <a:xfrm flipH="1" rot="4107000">
                <a:off x="1462680" y="465120"/>
                <a:ext cx="609480" cy="588600"/>
              </a:xfrm>
              <a:custGeom>
                <a:avLst/>
                <a:gdLst>
                  <a:gd name="textAreaLeft" fmla="*/ -360 w 609480"/>
                  <a:gd name="textAreaRight" fmla="*/ 609480 w 609480"/>
                  <a:gd name="textAreaTop" fmla="*/ 0 h 588600"/>
                  <a:gd name="textAreaBottom" fmla="*/ 588600 h 588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78879"/>
              <p:cNvSpPr/>
              <p:nvPr/>
            </p:nvSpPr>
            <p:spPr>
              <a:xfrm flipH="1" rot="4107000">
                <a:off x="460440" y="1117080"/>
                <a:ext cx="637200" cy="2995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78880"/>
            <p:cNvGrpSpPr/>
            <p:nvPr/>
          </p:nvGrpSpPr>
          <p:grpSpPr>
            <a:xfrm>
              <a:off x="9848880" y="3661200"/>
              <a:ext cx="1521720" cy="1686960"/>
              <a:chOff x="9848880" y="3661200"/>
              <a:chExt cx="1521720" cy="1686960"/>
            </a:xfrm>
          </p:grpSpPr>
          <p:sp>
            <p:nvSpPr>
              <p:cNvPr id="385" name="任意多边形 78881"/>
              <p:cNvSpPr/>
              <p:nvPr/>
            </p:nvSpPr>
            <p:spPr>
              <a:xfrm flipH="1" rot="10015800">
                <a:off x="9902160" y="4770360"/>
                <a:ext cx="474480" cy="531000"/>
              </a:xfrm>
              <a:custGeom>
                <a:avLst/>
                <a:gdLst>
                  <a:gd name="textAreaLeft" fmla="*/ 360 w 474480"/>
                  <a:gd name="textAreaRight" fmla="*/ 475200 w 47448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78882"/>
              <p:cNvSpPr/>
              <p:nvPr/>
            </p:nvSpPr>
            <p:spPr>
              <a:xfrm flipH="1" rot="10015800">
                <a:off x="10518480" y="4420800"/>
                <a:ext cx="812160" cy="441360"/>
              </a:xfrm>
              <a:custGeom>
                <a:avLst/>
                <a:gdLst>
                  <a:gd name="textAreaLeft" fmla="*/ 360 w 812160"/>
                  <a:gd name="textAreaRight" fmla="*/ 812880 w 8121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78883"/>
              <p:cNvSpPr/>
              <p:nvPr/>
            </p:nvSpPr>
            <p:spPr>
              <a:xfrm flipH="1" rot="10015800">
                <a:off x="10171440" y="3754080"/>
                <a:ext cx="848880" cy="22464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任意多边形 78884"/>
            <p:cNvSpPr/>
            <p:nvPr/>
          </p:nvSpPr>
          <p:spPr>
            <a:xfrm>
              <a:off x="2575800" y="3240"/>
              <a:ext cx="1824120" cy="140652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78885"/>
            <p:cNvSpPr/>
            <p:nvPr/>
          </p:nvSpPr>
          <p:spPr>
            <a:xfrm flipV="1" rot="9832800">
              <a:off x="4566600" y="160920"/>
              <a:ext cx="1441080" cy="94176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360 h 941760"/>
                <a:gd name="textAreaBottom" fmla="*/ 942480 h 9417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78886"/>
            <p:cNvSpPr/>
            <p:nvPr/>
          </p:nvSpPr>
          <p:spPr>
            <a:xfrm flipV="1" rot="9832800">
              <a:off x="4226040" y="1361160"/>
              <a:ext cx="698040" cy="4410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78887"/>
            <p:cNvSpPr/>
            <p:nvPr/>
          </p:nvSpPr>
          <p:spPr>
            <a:xfrm flipV="1" rot="9832800">
              <a:off x="4706640" y="1282320"/>
              <a:ext cx="260280" cy="3700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78888"/>
            <p:cNvSpPr/>
            <p:nvPr/>
          </p:nvSpPr>
          <p:spPr>
            <a:xfrm>
              <a:off x="3393000" y="0"/>
              <a:ext cx="262440" cy="1922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78889"/>
            <p:cNvSpPr/>
            <p:nvPr/>
          </p:nvSpPr>
          <p:spPr>
            <a:xfrm flipV="1" rot="9832800">
              <a:off x="4598640" y="1964160"/>
              <a:ext cx="831600" cy="36518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360 h 3651840"/>
                <a:gd name="textAreaBottom" fmla="*/ 3652560 h 36518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78890"/>
            <p:cNvSpPr/>
            <p:nvPr/>
          </p:nvSpPr>
          <p:spPr>
            <a:xfrm>
              <a:off x="0" y="2933640"/>
              <a:ext cx="75960" cy="209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5A0-6556-4C5C-9F6B-399CDF3FF0BB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69633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93470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1717-1C80-4A61-99A3-B3ABD7C212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6145" descr="292013229401"/>
          <p:cNvPicPr/>
          <p:nvPr/>
        </p:nvPicPr>
        <p:blipFill>
          <a:blip r:embed="rId1"/>
          <a:stretch/>
        </p:blipFill>
        <p:spPr>
          <a:xfrm>
            <a:off x="1128600" y="-3240"/>
            <a:ext cx="9720360" cy="686592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2" descr="777c5540786836f7b3d12410d79a7040"/>
          <p:cNvPicPr/>
          <p:nvPr/>
        </p:nvPicPr>
        <p:blipFill>
          <a:blip r:embed="rId2"/>
          <a:stretch/>
        </p:blipFill>
        <p:spPr>
          <a:xfrm>
            <a:off x="-19080" y="-3240"/>
            <a:ext cx="12225240" cy="702324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6146"/>
          <p:cNvSpPr/>
          <p:nvPr/>
        </p:nvSpPr>
        <p:spPr>
          <a:xfrm>
            <a:off x="1563840" y="301680"/>
            <a:ext cx="89773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候课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持安静！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坐姿端正 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准备好学习用具                                                                              （课本，导纲，练习本，红黑笔）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矩形 4" descr=""/>
          <p:cNvPicPr/>
          <p:nvPr/>
        </p:nvPicPr>
        <p:blipFill>
          <a:blip r:embed="rId3"/>
          <a:stretch/>
        </p:blipFill>
        <p:spPr>
          <a:xfrm>
            <a:off x="669960" y="4054320"/>
            <a:ext cx="1009008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5"/>
          <p:cNvSpPr/>
          <p:nvPr/>
        </p:nvSpPr>
        <p:spPr>
          <a:xfrm>
            <a:off x="2889360" y="2395440"/>
            <a:ext cx="6210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古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来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2476440" y="207972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前：过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9"/>
          <p:cNvSpPr/>
          <p:nvPr/>
        </p:nvSpPr>
        <p:spPr>
          <a:xfrm>
            <a:off x="5238720" y="214164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后：未来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8"/>
          <p:cNvSpPr/>
          <p:nvPr/>
        </p:nvSpPr>
        <p:spPr>
          <a:xfrm>
            <a:off x="3898800" y="317664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古人：古代那些能够礼贤下士的圣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27"/>
          <p:cNvGrpSpPr/>
          <p:nvPr/>
        </p:nvGrpSpPr>
        <p:grpSpPr>
          <a:xfrm>
            <a:off x="1657440" y="923040"/>
            <a:ext cx="2687040" cy="822240"/>
            <a:chOff x="1657440" y="923040"/>
            <a:chExt cx="2687040" cy="822240"/>
          </a:xfrm>
        </p:grpSpPr>
        <p:sp>
          <p:nvSpPr>
            <p:cNvPr id="525" name="矩形: 圆角 28"/>
            <p:cNvSpPr/>
            <p:nvPr/>
          </p:nvSpPr>
          <p:spPr>
            <a:xfrm rot="20527200">
              <a:off x="1725120" y="1087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: 圆角 29"/>
            <p:cNvSpPr/>
            <p:nvPr/>
          </p:nvSpPr>
          <p:spPr>
            <a:xfrm rot="294000">
              <a:off x="2388600" y="1114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: 圆角 30"/>
            <p:cNvSpPr/>
            <p:nvPr/>
          </p:nvSpPr>
          <p:spPr>
            <a:xfrm rot="1137000">
              <a:off x="3043080" y="100440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: 圆角 31"/>
            <p:cNvSpPr/>
            <p:nvPr/>
          </p:nvSpPr>
          <p:spPr>
            <a:xfrm rot="20889600">
              <a:off x="3705480" y="115524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Box 2"/>
          <p:cNvSpPr/>
          <p:nvPr/>
        </p:nvSpPr>
        <p:spPr>
          <a:xfrm>
            <a:off x="5388120" y="879480"/>
            <a:ext cx="140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登幽州台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3371760" y="4560840"/>
            <a:ext cx="7650360" cy="825120"/>
          </a:xfrm>
          <a:prstGeom prst="rect">
            <a:avLst/>
          </a:prstGeom>
          <a:gradFill rotWithShape="0">
            <a:gsLst>
              <a:gs pos="0">
                <a:srgbClr val="ecccff"/>
              </a:gs>
              <a:gs pos="100000">
                <a:srgbClr val="f9efff"/>
              </a:gs>
            </a:gsLst>
            <a:lin ang="16200000"/>
          </a:gradFill>
          <a:ln w="9360">
            <a:solidFill>
              <a:srgbClr val="d9b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诗意：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往前不见古代招贤的圣君，向后不见后世求才的明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9"/>
          <p:cNvSpPr/>
          <p:nvPr/>
        </p:nvSpPr>
        <p:spPr>
          <a:xfrm>
            <a:off x="7988400" y="23652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来者：后世那些重视人才的贤明君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5"/>
          <p:cNvSpPr/>
          <p:nvPr/>
        </p:nvSpPr>
        <p:spPr>
          <a:xfrm>
            <a:off x="2889360" y="1963800"/>
            <a:ext cx="6210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地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悠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独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怆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8"/>
          <p:cNvSpPr/>
          <p:nvPr/>
        </p:nvSpPr>
        <p:spPr>
          <a:xfrm>
            <a:off x="2279520" y="177336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念：想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8"/>
          <p:cNvSpPr/>
          <p:nvPr/>
        </p:nvSpPr>
        <p:spPr>
          <a:xfrm>
            <a:off x="4443480" y="1109520"/>
            <a:ext cx="28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悠悠：形容时间的久远和空间的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8"/>
          <p:cNvSpPr/>
          <p:nvPr/>
        </p:nvSpPr>
        <p:spPr>
          <a:xfrm>
            <a:off x="5610240" y="283680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怆然：悲伤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"/>
          <p:cNvSpPr/>
          <p:nvPr/>
        </p:nvSpPr>
        <p:spPr>
          <a:xfrm>
            <a:off x="7291440" y="194328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涕：指眼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"/>
          <p:cNvSpPr/>
          <p:nvPr/>
        </p:nvSpPr>
        <p:spPr>
          <a:xfrm>
            <a:off x="2954160" y="4125960"/>
            <a:ext cx="8018640" cy="1556280"/>
          </a:xfrm>
          <a:prstGeom prst="rect">
            <a:avLst/>
          </a:prstGeom>
          <a:gradFill rotWithShape="0">
            <a:gsLst>
              <a:gs pos="0">
                <a:srgbClr val="ecccff"/>
              </a:gs>
              <a:gs pos="100000">
                <a:srgbClr val="f9efff"/>
              </a:gs>
            </a:gsLst>
            <a:lin ang="16200000"/>
          </a:gradFill>
          <a:ln w="9360">
            <a:solidFill>
              <a:srgbClr val="d9b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诗意：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只有那苍茫天地悠悠无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止不住满怀悲伤热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2" name="图片 36865" descr="ssh1-10a"/>
          <p:cNvPicPr/>
          <p:nvPr/>
        </p:nvPicPr>
        <p:blipFill>
          <a:blip r:embed="rId3"/>
          <a:stretch/>
        </p:blipFill>
        <p:spPr>
          <a:xfrm>
            <a:off x="-171360" y="15840"/>
            <a:ext cx="12453840" cy="686592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99"/>
          <p:cNvSpPr/>
          <p:nvPr/>
        </p:nvSpPr>
        <p:spPr>
          <a:xfrm>
            <a:off x="4535640" y="15840"/>
            <a:ext cx="7981920" cy="34455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追忆历史，往前不见古代招贤的圣君，向往未来，不见后世求才的明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（登楼远眺）想到宇宙邈远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[miǎo yuǎn]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、广阔无边（我深感人生短暂与人的渺小），独自凭吊，（我）悲伤难过，潸然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[shān rán]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泪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8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文本框 99"/>
          <p:cNvSpPr/>
          <p:nvPr/>
        </p:nvSpPr>
        <p:spPr>
          <a:xfrm>
            <a:off x="1189080" y="650880"/>
            <a:ext cx="107744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【自学指导</a:t>
            </a:r>
            <a:r>
              <a:rPr b="0" lang="en-US" sz="44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】</a:t>
            </a: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请同学们自读诗歌，把握诗歌主旨，  体会本诗阔大苍凉的意境美，领会诗人怀才不遇，寂寞悲凉的心情，完成下列各题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钟后展示自学成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9988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8c0039"/>
                </a:solidFill>
                <a:latin typeface="Arial"/>
              </a:rPr>
              <a:t>小组讨论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927160" y="1052640"/>
            <a:ext cx="926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诗歌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句从什么角度表现了诗人的孤独，为下文抒发怎样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独怆然而涕下”中“独”字有何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这首诗写出了一个怎样的诗人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本诗的主旨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6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文本框 99"/>
          <p:cNvSpPr/>
          <p:nvPr/>
        </p:nvSpPr>
        <p:spPr>
          <a:xfrm>
            <a:off x="1378080" y="380880"/>
            <a:ext cx="1040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诗歌第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句从什么角度表现了诗人的孤独，为下文抒发怎样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4"/>
          <p:cNvSpPr/>
          <p:nvPr/>
        </p:nvSpPr>
        <p:spPr>
          <a:xfrm>
            <a:off x="746280" y="2193840"/>
            <a:ext cx="102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从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时间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角度表现了诗人的孤独，为下文抒发悲怆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3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文本框 99"/>
          <p:cNvSpPr/>
          <p:nvPr/>
        </p:nvSpPr>
        <p:spPr>
          <a:xfrm>
            <a:off x="1305000" y="56340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独怆然而涕下”中“独”字有何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4"/>
          <p:cNvSpPr/>
          <p:nvPr/>
        </p:nvSpPr>
        <p:spPr>
          <a:xfrm>
            <a:off x="1305000" y="196704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字渲染了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诗人心中不可名状的孤独悲凉之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0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文本框 99"/>
          <p:cNvSpPr/>
          <p:nvPr/>
        </p:nvSpPr>
        <p:spPr>
          <a:xfrm>
            <a:off x="1574640" y="487440"/>
            <a:ext cx="1021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这首诗写出了一个怎样的诗人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"/>
          <p:cNvSpPr/>
          <p:nvPr/>
        </p:nvSpPr>
        <p:spPr>
          <a:xfrm>
            <a:off x="1901880" y="2176560"/>
            <a:ext cx="91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首诗写出了一个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怀才不遇的孤独无奈、悲愤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人形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文本框 99"/>
          <p:cNvSpPr/>
          <p:nvPr/>
        </p:nvSpPr>
        <p:spPr>
          <a:xfrm>
            <a:off x="2290680" y="453960"/>
            <a:ext cx="88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本诗的主旨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4"/>
          <p:cNvSpPr/>
          <p:nvPr/>
        </p:nvSpPr>
        <p:spPr>
          <a:xfrm>
            <a:off x="1108080" y="1665360"/>
            <a:ext cx="102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人登楼远眺，以北方的苍茫广阔的原野为背景，俯仰古今，视通万里，表达了诗人怀才不遇、壮志难酬、时不我待、孤独悲伤无奈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深刻地揭示了封建社会中正直、多才而遭遇困厄的知识分子遭受压抑的境遇，表达了他们在理想破灭时孤寂郁闷的心情，具有深刻典型的社会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133720" y="2187720"/>
            <a:ext cx="8075520" cy="3465360"/>
          </a:xfrm>
          <a:prstGeom prst="rect">
            <a:avLst/>
          </a:prstGeom>
          <a:noFill/>
          <a:ln w="9360">
            <a:solidFill>
              <a:srgbClr val="0057d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陈子昂压卷之作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创造出了空旷苍茫、慷慨悲凉的意境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表达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诗人怀才不遇、壮志难酬的悲愤之情和孤独之感</a:t>
            </a: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 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59280" y="191880"/>
            <a:ext cx="57816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登幽州台歌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82" name="图片 82947" descr="j0115856"/>
          <p:cNvPicPr/>
          <p:nvPr/>
        </p:nvPicPr>
        <p:blipFill>
          <a:blip r:embed="rId1"/>
          <a:stretch/>
        </p:blipFill>
        <p:spPr>
          <a:xfrm>
            <a:off x="1523880" y="167796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4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登幽州台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311880" y="3212640"/>
            <a:ext cx="223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陈子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文本框 99"/>
          <p:cNvSpPr/>
          <p:nvPr/>
        </p:nvSpPr>
        <p:spPr>
          <a:xfrm>
            <a:off x="1863720" y="380880"/>
            <a:ext cx="9921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宋体"/>
              </a:rPr>
              <a:t>【知识拓展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请你写出几句关于怀才不遇的诗句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4"/>
          <p:cNvSpPr/>
          <p:nvPr/>
        </p:nvSpPr>
        <p:spPr>
          <a:xfrm>
            <a:off x="-19080" y="2195640"/>
            <a:ext cx="11925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可怜夜半虚前席，不问苍生问鬼神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商隐《贾生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天生我材必有用，千金散尽还复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白《将进酒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出师未捷身先死，长使英雄泪满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杜甫《蜀相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一枝花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840" y="-60480"/>
            <a:ext cx="12160440" cy="68929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1908000" y="1487520"/>
            <a:ext cx="866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桌面清空，坐姿端正，规范书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不讨论，不翻书，独立完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时间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9448920" y="6248520"/>
            <a:ext cx="9144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"/>
          <p:cNvSpPr/>
          <p:nvPr/>
        </p:nvSpPr>
        <p:spPr>
          <a:xfrm>
            <a:off x="3116160" y="165240"/>
            <a:ext cx="59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当堂训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8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文本框 4"/>
          <p:cNvSpPr/>
          <p:nvPr/>
        </p:nvSpPr>
        <p:spPr>
          <a:xfrm>
            <a:off x="1612800" y="716040"/>
            <a:ext cx="10071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宋体"/>
              </a:rPr>
              <a:t>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我登上幽州台眺望远方，思绪万千，看这茫茫宇宙，虽然无边无际，但没有一个能赏识人才的君主，不禁感到孤单寂寞，悲从中来而独自流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D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解析：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涕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古时指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09480" y="274680"/>
            <a:ext cx="109728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答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6"/>
          <p:cNvPicPr/>
          <p:nvPr/>
        </p:nvPicPr>
        <p:blipFill>
          <a:blip r:embed="rId1"/>
          <a:stretch/>
        </p:blipFill>
        <p:spPr>
          <a:xfrm>
            <a:off x="-302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2"/>
          <p:cNvSpPr/>
          <p:nvPr/>
        </p:nvSpPr>
        <p:spPr>
          <a:xfrm>
            <a:off x="1981080" y="2416320"/>
            <a:ext cx="789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最佳激情小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对象 32769"/>
          <p:cNvGraphicFramePr/>
          <p:nvPr/>
        </p:nvGraphicFramePr>
        <p:xfrm>
          <a:off x="1523880" y="44280"/>
          <a:ext cx="9144000" cy="6813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4" name="对象 327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428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文本框 32772"/>
          <p:cNvSpPr/>
          <p:nvPr/>
        </p:nvSpPr>
        <p:spPr>
          <a:xfrm>
            <a:off x="2908440" y="18900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艺术特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32773"/>
          <p:cNvSpPr/>
          <p:nvPr/>
        </p:nvSpPr>
        <p:spPr>
          <a:xfrm>
            <a:off x="152388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一二句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时间：俯仰古今，时间绵长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前－－后；古人－－来者。两用“不见”相连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表现自己的孤独寂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三四句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空间：宇宙寥阔与绵长，个人却渺小与短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，更何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生不逢时，于是伤感无限，涕泪交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32774"/>
          <p:cNvSpPr/>
          <p:nvPr/>
        </p:nvSpPr>
        <p:spPr>
          <a:xfrm>
            <a:off x="3671640" y="1052640"/>
            <a:ext cx="48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直抒胸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破空而来，感情的潮水澎湃而出，震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心，具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苍凉悲壮的阳刚之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32775"/>
          <p:cNvSpPr/>
          <p:nvPr/>
        </p:nvSpPr>
        <p:spPr>
          <a:xfrm>
            <a:off x="1631880" y="503244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深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楚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影响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１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远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：惟天地之无穷兮，哀人生之长勤。往者余弗　　　　及兮，来者吾不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２、采取了长短参错的楚辞体句法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2776"/>
          <p:cNvSpPr/>
          <p:nvPr/>
        </p:nvSpPr>
        <p:spPr>
          <a:xfrm>
            <a:off x="3518640" y="43848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社会意识、宇宙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内容占位符 35841"/>
          <p:cNvGraphicFramePr/>
          <p:nvPr/>
        </p:nvGraphicFramePr>
        <p:xfrm>
          <a:off x="15840" y="15840"/>
          <a:ext cx="1216044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40"/>
                    <a:ext cx="1216044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文本框 3"/>
          <p:cNvSpPr/>
          <p:nvPr/>
        </p:nvSpPr>
        <p:spPr>
          <a:xfrm>
            <a:off x="609480" y="1096920"/>
            <a:ext cx="10972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6000" spc="-1" strike="noStrike">
                <a:solidFill>
                  <a:srgbClr val="0000f1"/>
                </a:solidFill>
                <a:latin typeface="Arial"/>
              </a:rPr>
              <a:t>【学习目标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了解有关陈子昂的文学常识，朗读并背诵诗歌。（重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把握诗歌主旨，体会本诗阔大苍凉的意境美。（难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领会诗人怀才不遇，寂寞悲凉的心情，树立正确的人生观。（了解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内容占位符 35841"/>
          <p:cNvGraphicFramePr/>
          <p:nvPr/>
        </p:nvGraphicFramePr>
        <p:xfrm>
          <a:off x="2556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2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文本框 99"/>
          <p:cNvSpPr/>
          <p:nvPr/>
        </p:nvSpPr>
        <p:spPr>
          <a:xfrm>
            <a:off x="892080" y="1006560"/>
            <a:ext cx="11041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【自学指导</a:t>
            </a: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1</a:t>
            </a: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请同学们朗读全诗，借助课下注释和工具书，了解有关陈子昂的文学常识，朗读并背诵诗歌，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分钟后展示自学成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对象 28675"/>
          <p:cNvGraphicFramePr/>
          <p:nvPr/>
        </p:nvGraphicFramePr>
        <p:xfrm>
          <a:off x="-4680" y="-20520"/>
          <a:ext cx="12199680" cy="689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5" name="对象 286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0" y="-20520"/>
                    <a:ext cx="1219968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矩形 28676"/>
          <p:cNvSpPr/>
          <p:nvPr/>
        </p:nvSpPr>
        <p:spPr>
          <a:xfrm>
            <a:off x="4727520" y="-171360"/>
            <a:ext cx="51069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690ed2"/>
                </a:solidFill>
                <a:latin typeface="Arial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8677"/>
          <p:cNvSpPr/>
          <p:nvPr/>
        </p:nvSpPr>
        <p:spPr>
          <a:xfrm>
            <a:off x="5087880" y="620640"/>
            <a:ext cx="71042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子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661-702)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伯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射洪人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唐代文学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诗革新的先驱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诗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代表作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感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旨在抨击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ēng j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时弊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抒写情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他是一个具有政治见解和政治才能的文人。他敢言，对武后朝的不少弊政，常常提出批评意见，不为武则天所重视，并曾一度因逆党株连下狱，他的政治抱负不能实现，反而受到打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使他心情非常苦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http://p8.qhmsg.com/t01491ee5e361e875e5.jpg"/>
          <p:cNvPicPr/>
          <p:nvPr/>
        </p:nvPicPr>
        <p:blipFill>
          <a:blip r:embed="rId3"/>
          <a:stretch/>
        </p:blipFill>
        <p:spPr>
          <a:xfrm>
            <a:off x="1415880" y="0"/>
            <a:ext cx="4032360" cy="532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内容占位符 29697"/>
          <p:cNvGraphicFramePr/>
          <p:nvPr/>
        </p:nvGraphicFramePr>
        <p:xfrm>
          <a:off x="9360" y="22320"/>
          <a:ext cx="12173040" cy="681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0" name="内容占位符 296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2320"/>
                    <a:ext cx="12173040" cy="68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文本框 29701"/>
          <p:cNvSpPr/>
          <p:nvPr/>
        </p:nvSpPr>
        <p:spPr>
          <a:xfrm>
            <a:off x="839880" y="981000"/>
            <a:ext cx="1055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武则天万岁通天元年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9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契丹李尽忠、孙万荣等攻陷营州。武则天委派武攸宜率军征讨，陈子昂在武攸宜幕府担任参谋，随同出征。武为人轻率，少谋略。次年兵败，情况紧急，陈子昂请求遣万人作前驱以击敌，武不允。稍后，陈子昂又向武进言，不听，反把他降为军曹。诗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接连受到挫折，眼看报国宏愿成为泡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因此登上蓟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北楼（即幽州台，遗址在今北京市）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慷慨悲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写下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幽州台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蓟丘览古赠卢居士藏用七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诗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29702"/>
          <p:cNvSpPr/>
          <p:nvPr/>
        </p:nvSpPr>
        <p:spPr>
          <a:xfrm>
            <a:off x="1873080" y="90360"/>
            <a:ext cx="546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4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矩形 35842"/>
          <p:cNvSpPr/>
          <p:nvPr/>
        </p:nvSpPr>
        <p:spPr>
          <a:xfrm>
            <a:off x="4727520" y="476280"/>
            <a:ext cx="2808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836640"/>
            <a:ext cx="1107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6000" spc="-1" strike="noStrike">
                <a:solidFill>
                  <a:srgbClr val="690ed2"/>
                </a:solidFill>
                <a:latin typeface="宋体"/>
              </a:rPr>
              <a:t>解题</a:t>
            </a:r>
            <a:r>
              <a:rPr b="1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sz="4400" spc="-1" strike="noStrike">
                <a:solidFill>
                  <a:srgbClr val="000000"/>
                </a:solidFill>
                <a:latin typeface="宋体"/>
              </a:rPr>
              <a:t>幽州台”，即蓟北楼，是战国时燕昭王为招纳天下贤士所建，故址在今北京西南。“歌”，古代的一种诗歌载体。题目点明了此时是诗人在登临幽州台时所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3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3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1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文本框 99"/>
          <p:cNvSpPr/>
          <p:nvPr/>
        </p:nvSpPr>
        <p:spPr>
          <a:xfrm>
            <a:off x="1147680" y="770040"/>
            <a:ext cx="1020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690ed2"/>
                </a:solidFill>
                <a:latin typeface="宋体"/>
                <a:ea typeface="宋体"/>
              </a:rPr>
              <a:t>字音字形及释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（         ）</a:t>
            </a:r>
            <a:r>
              <a:rPr b="1" sz="4000" spc="-1" strike="noStrike">
                <a:solidFill>
                  <a:srgbClr val="3333ff"/>
                </a:solidFill>
                <a:latin typeface="宋体"/>
                <a:ea typeface="宋体"/>
              </a:rPr>
              <a:t>怆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然： </a:t>
            </a:r>
            <a:r>
              <a:rPr b="0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（  </a:t>
            </a:r>
            <a:r>
              <a:rPr b="1" sz="4000" spc="-1" strike="noStrike">
                <a:solidFill>
                  <a:srgbClr val="ff0000"/>
                </a:solidFill>
                <a:latin typeface="宋体"/>
                <a:ea typeface="宋体"/>
              </a:rPr>
              <a:t>tì 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）  下：</a:t>
            </a:r>
            <a:r>
              <a:rPr b="0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4"/>
          <p:cNvSpPr/>
          <p:nvPr/>
        </p:nvSpPr>
        <p:spPr>
          <a:xfrm>
            <a:off x="1851120" y="2519280"/>
            <a:ext cx="23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u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5"/>
          <p:cNvSpPr/>
          <p:nvPr/>
        </p:nvSpPr>
        <p:spPr>
          <a:xfrm>
            <a:off x="4224240" y="3860640"/>
            <a:ext cx="11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"/>
          <p:cNvSpPr/>
          <p:nvPr/>
        </p:nvSpPr>
        <p:spPr>
          <a:xfrm>
            <a:off x="6019920" y="261612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悲伤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7"/>
          <p:cNvSpPr/>
          <p:nvPr/>
        </p:nvSpPr>
        <p:spPr>
          <a:xfrm>
            <a:off x="5232240" y="3860640"/>
            <a:ext cx="38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36865" descr="ssh1-10a"/>
          <p:cNvPicPr/>
          <p:nvPr/>
        </p:nvPicPr>
        <p:blipFill>
          <a:blip r:embed="rId1"/>
          <a:stretch/>
        </p:blipFill>
        <p:spPr>
          <a:xfrm>
            <a:off x="-3240" y="3240"/>
            <a:ext cx="12211200" cy="6854760"/>
          </a:xfrm>
          <a:prstGeom prst="rect">
            <a:avLst/>
          </a:prstGeom>
          <a:ln w="0">
            <a:noFill/>
          </a:ln>
        </p:spPr>
      </p:pic>
      <p:sp>
        <p:nvSpPr>
          <p:cNvPr id="518" name="矩形 36866"/>
          <p:cNvSpPr/>
          <p:nvPr/>
        </p:nvSpPr>
        <p:spPr>
          <a:xfrm>
            <a:off x="4511520" y="549360"/>
            <a:ext cx="3240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6867"/>
          <p:cNvSpPr/>
          <p:nvPr/>
        </p:nvSpPr>
        <p:spPr>
          <a:xfrm>
            <a:off x="5035680" y="1687680"/>
            <a:ext cx="6400800" cy="38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／不见／古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／不见／来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念／天地／之／悠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独／怆然／而／涕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2:04:03Z</dcterms:created>
  <dc:creator/>
  <dc:description/>
  <cp:keywords/>
  <dc:language>en-US</dc:language>
  <cp:lastModifiedBy>Administrator</cp:lastModifiedBy>
  <dcterms:modified xsi:type="dcterms:W3CDTF">2018-05-16T13:13:38Z</dcterms:modified>
  <cp:revision>70</cp:revision>
  <dc:subject/>
  <dc:title>登幽州台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